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52A-F8CE-4F09-A2E5-493A0543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75F-0C64-4375-AEF1-A5AFE06C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CED-9A0D-4456-93F3-AE9BEA21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69C-5C3F-4B80-9FDA-22E815A6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3DD-D23E-4D95-9A09-9904A7FA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77AE-369A-4C68-9631-953DC28B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C60-A8FF-461E-8349-18AB6CB3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931-A512-487B-A040-94A0D034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817-FAF8-451B-A5BB-82CC4F33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39B-955C-48C5-89D3-2CD79065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D53-3DBB-4439-AC3E-C0D805F6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D43-7871-46E6-9E92-BD2011C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2854-DA0C-4CDD-8DBE-71C53D108C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240" y="-360"/>
            <a:ext cx="116647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Практическая работа №4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«Изучение приспособлений паразитических червей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 к паразитизму»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Цель работы:  выявить приспособления плоских паразитических червей к паразитизму.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Оборудование: презентация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Ход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9520" y="0"/>
            <a:ext cx="9432720" cy="558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Georgia"/>
              </a:rPr>
              <a:t>3. Класс Ленточные черви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(посмотрите слайд 12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Свиной цепень ( 2-6 м 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Бычий цепень ( 4-10 м 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Лентец широкий ( до 30 м 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Эхинококк ( до 6 мм )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46240" y="-231840"/>
            <a:ext cx="8291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0033"/>
                </a:solidFill>
                <a:uFillTx/>
                <a:latin typeface="Georgia"/>
              </a:rPr>
              <a:t>Выпишите признаки клас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1880" y="476280"/>
            <a:ext cx="1180764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Тело в виде л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Головка с органами прикреп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Лентовидное тело ( стробила ) состоит из члеников                     ( проглоттид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тсутствует пищеварительная систем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громная плодовитость ( в сутки больным человеком выделяется до 28 члеников содержащих – 5 млн. яиц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ложный цикл разви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Членики могут сами отделяться от т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19160" y="44280"/>
            <a:ext cx="943272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9520" y="188640"/>
            <a:ext cx="1123308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ыполните задания: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то является хозяином бычьего цепня? Рассмотрите жизненный цикл бычьего цепня (слайд 16)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каком органе он паразитирует?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очему этого червя называют бычьим цепнем?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 можно заразиться бычьим цепнем?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зовите приспособления к паразитическому образу жизни(слайд 14, 15)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зовите меры профилактики (слайд 18)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пишите вывод (слайд 20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4800" y="266400"/>
            <a:ext cx="1036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Приспособления к паразитическому образу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34800" y="1557000"/>
            <a:ext cx="11520720" cy="51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Питание полупереваренной пищей или тканями хозя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Отсутствуют органы чув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Упрощены органы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Развиты органы прикреп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Покровы тела плотные и стойкие к воздейств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Устойчивы к недостатку кислород – анаэроб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Преобладает гермафродитизм, огромная плодовит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Сложные жизненные циклы, со сменой хозяе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415880" y="-81000"/>
            <a:ext cx="8490240" cy="636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1568520" y="71280"/>
            <a:ext cx="848988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381720" y="225360"/>
            <a:ext cx="3960720" cy="583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859040" y="981000"/>
            <a:ext cx="4356000" cy="5877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2214720" y="228600"/>
            <a:ext cx="3644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Georgia"/>
                <a:ea typeface="Arial"/>
              </a:rPr>
              <a:t>Бычий цеп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6438960" y="6157800"/>
            <a:ext cx="3995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Georgia"/>
                <a:ea typeface="Arial"/>
              </a:rPr>
              <a:t>Свинной цеп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0033"/>
                </a:solidFill>
                <a:uFillTx/>
                <a:latin typeface="Georgia"/>
              </a:rPr>
              <a:t>Методы профилактики и борьбы с ленточными червя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160" y="1600200"/>
            <a:ext cx="11736360" cy="499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беззараживание пастби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бследование животных и их мяса перед продаж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Термическая обработка мя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етеринарный контро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Личная гигиена ( не допускать самозаражения 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 лесу не брать травинки в р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Лечение боль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Напишите в тетради: 1. Класс Сосальщики. Печеночный сосальщ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сосальщик"/>
          <p:cNvPicPr/>
          <p:nvPr/>
        </p:nvPicPr>
        <p:blipFill>
          <a:blip r:embed="rId1"/>
          <a:stretch/>
        </p:blipFill>
        <p:spPr>
          <a:xfrm>
            <a:off x="609480" y="1484280"/>
            <a:ext cx="5846760" cy="5129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6512040" y="1700280"/>
            <a:ext cx="523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  <a:ea typeface="Arial"/>
              </a:rPr>
              <a:t>Хозяин</a:t>
            </a:r>
            <a:r>
              <a:rPr b="0" lang="ru-RU" sz="3600" spc="-1" strike="noStrike">
                <a:solidFill>
                  <a:srgbClr val="002060"/>
                </a:solidFill>
                <a:latin typeface="Georgia"/>
                <a:ea typeface="Arial"/>
              </a:rPr>
              <a:t> – организм, где живет взрослая особь;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  <a:ea typeface="Arial"/>
              </a:rPr>
              <a:t>промежуточный хозяин </a:t>
            </a:r>
            <a:r>
              <a:rPr b="0" lang="ru-RU" sz="3600" spc="-1" strike="noStrike">
                <a:solidFill>
                  <a:srgbClr val="002060"/>
                </a:solidFill>
                <a:latin typeface="Georgia"/>
                <a:ea typeface="Arial"/>
              </a:rPr>
              <a:t>– организм, где живет личиночная ста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  <a:ea typeface="Arial"/>
              </a:rPr>
              <a:t>Рассмотрите строение печеночного сосальщика (слайд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сосальщик"/>
          <p:cNvPicPr/>
          <p:nvPr/>
        </p:nvPicPr>
        <p:blipFill>
          <a:blip r:embed="rId2"/>
          <a:stretch/>
        </p:blipFill>
        <p:spPr>
          <a:xfrm>
            <a:off x="609480" y="1467000"/>
            <a:ext cx="5846760" cy="512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сосальщик"/>
          <p:cNvPicPr/>
          <p:nvPr/>
        </p:nvPicPr>
        <p:blipFill>
          <a:blip r:embed="rId3"/>
          <a:stretch/>
        </p:blipFill>
        <p:spPr>
          <a:xfrm>
            <a:off x="554040" y="1916280"/>
            <a:ext cx="5846760" cy="51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9520" y="188640"/>
            <a:ext cx="1123308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ыполните задания: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то является хозяином печеночного сосальщика?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каком органе паразитирует?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Чем питается?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ую роль играет моллюск малый прудовик в жизненном цикле печеночного сосальщика?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 можно заразиться печеночным сосальщиком?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зовите меры профилактики (слайд 7)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Зарисуйте в тетради схему жизненного цикла печеночного сосальщика (слайд 4)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ыпишите приспособления к паразитизму печеночного сосальщика (слайд 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7920" y="-11160"/>
            <a:ext cx="9604440" cy="71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19160" y="0"/>
            <a:ext cx="118807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"/>
          <p:cNvPicPr/>
          <p:nvPr/>
        </p:nvPicPr>
        <p:blipFill>
          <a:blip r:embed="rId2"/>
          <a:stretch/>
        </p:blipFill>
        <p:spPr>
          <a:xfrm>
            <a:off x="271440" y="152280"/>
            <a:ext cx="1188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Меры борьбы и профилактики и борьбы с Печеночным сосальщи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060280"/>
            <a:ext cx="1123344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ыявление больных животных и люд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Уничтожение малых прудов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мена пастбищ ( несколько лет не выпасают на пастбище скот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е пить воду из природных источников, пить только кипяченную во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. Кошачья двуустка (слайд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Кто является хозяином кошачьей двуустки?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В каком органе она паразитирует?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Какое заболевание вызывает?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Какую роль играют рыбы в жизненном цикле кошачьей двуустки?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Как можно заразиться кошачьей двуусткой?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66800" y="115920"/>
            <a:ext cx="9505800" cy="71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Пользователь</cp:lastModifiedBy>
  <dcterms:modified xsi:type="dcterms:W3CDTF">2025-11-25T06:31:37Z</dcterms:modified>
  <cp:revision>10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/>
  </property>
  <property fmtid="{D5CDD505-2E9C-101B-9397-08002B2CF9AE}" pid="3" name="IsFreeze">
    <vt:bool>0</vt:bool>
  </property>
  <property fmtid="{D5CDD505-2E9C-101B-9397-08002B2CF9AE}" pid="4" name="MayClose">
    <vt:bool>0</vt:bool>
  </property>
  <property fmtid="{D5CDD505-2E9C-101B-9397-08002B2CF9AE}" pid="5" name="UserClose">
    <vt:bool>0</vt:bool>
  </property>
</Properties>
</file>