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C5F9-72C3-4BE0-BBD5-1B63AE07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9F63-AC8C-4A22-B42B-E15B7E89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0D82-E912-411B-9D04-1D7A7CEB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7595-C82C-48BE-8D81-3E4F91EE9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E50E-9C18-4C81-B5DC-CB43DF37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ED41-D968-4D5F-808A-D50D1EF4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1C7F-B091-4450-AC71-A3EB2746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17D9-B695-4E90-A18F-37D5FA36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1791-D854-4F33-9757-DBB22302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C19E-614D-4D0F-8EBF-83EDF133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2DE0-357F-46C2-8EB5-54B6CCD1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8C35-25A4-4219-97C0-51FD1F67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418F-89B8-4407-BCBF-07C6B44173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2240" y="-360"/>
            <a:ext cx="1166472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Georgia"/>
              </a:rPr>
              <a:t>Практическая работа №4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Georgia"/>
              </a:rPr>
              <a:t>«Изучение приспособлений паразитических червей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Georgia"/>
              </a:rPr>
              <a:t> к паразитизму»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Georgia"/>
              </a:rPr>
              <a:t>Цель работы:  выявить приспособления плоских паразитических червей к паразитизму.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Georgia"/>
              </a:rPr>
              <a:t>Оборудование: презентация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Georgia"/>
              </a:rPr>
              <a:t>Ход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9520" y="0"/>
            <a:ext cx="9432720" cy="558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Georgia"/>
              </a:rPr>
              <a:t>3. Класс Ленточные черви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(посмотрите слайд 12)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Свиной цепень ( 2-6 м )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Бычий цепень ( 4-10 м )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Лентец широкий ( до 30 м )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Эхинококк ( до 6 мм )</a:t>
            </a: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46240" y="-231840"/>
            <a:ext cx="82915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990033"/>
                </a:solidFill>
                <a:uFillTx/>
                <a:latin typeface="Georgia"/>
              </a:rPr>
              <a:t>Выпишите признаки класс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1880" y="476280"/>
            <a:ext cx="11807640" cy="61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Тело в виде лен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Головка с органами прикреп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Лентовидное тело ( стробила ) состоит из члеников                     ( проглоттид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Отсутствует пищеварительная система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Огромная плодовитость ( в сутки больным человеком выделяется до 28 члеников содержащих – 5 млн. яиц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Сложный цикл развит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Членики могут сами отделяться от те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19160" y="44280"/>
            <a:ext cx="943272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9520" y="188640"/>
            <a:ext cx="1123308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ыполните задания: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Кто является хозяином бычьего цепня? Рассмотрите жизненный цикл бычьего цепня (слайд 16)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 каком органе он паразитирует?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Почему этого червя называют бычьим цепнем?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Как можно заразиться бычьим цепнем?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Назовите приспособления к паразитическому образу жизни(слайд 14, 15)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Назовите меры профилактики (слайд 18)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Напишите вывод (слайд 20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4800" y="266400"/>
            <a:ext cx="10369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Georgia"/>
              </a:rPr>
              <a:t>Приспособления к паразитическому образу жизн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34800" y="1557000"/>
            <a:ext cx="11520720" cy="51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Питание полупереваренной пищей или тканями хозя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Отсутствуют органы чувст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Упрощены органы дви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Развиты органы прикреп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Покровы тела плотные и стойкие к воздействи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Устойчивы к недостатку кислород – анаэроб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Преобладает гермафродитизм, огромная плодовит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Сложные жизненные циклы, со сменой хозяе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415880" y="-81000"/>
            <a:ext cx="8490240" cy="6367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1568520" y="71280"/>
            <a:ext cx="8489880" cy="63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6381720" y="225360"/>
            <a:ext cx="3960720" cy="5832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1859040" y="981000"/>
            <a:ext cx="4356000" cy="5877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7"/>
          <p:cNvSpPr/>
          <p:nvPr/>
        </p:nvSpPr>
        <p:spPr>
          <a:xfrm>
            <a:off x="2214720" y="228600"/>
            <a:ext cx="3644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Georgia"/>
                <a:ea typeface="Arial"/>
              </a:rPr>
              <a:t>Бычий цеп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9"/>
          <p:cNvSpPr/>
          <p:nvPr/>
        </p:nvSpPr>
        <p:spPr>
          <a:xfrm>
            <a:off x="6438960" y="6157800"/>
            <a:ext cx="3995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Georgia"/>
                <a:ea typeface="Arial"/>
              </a:rPr>
              <a:t>Свинной цеп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990033"/>
                </a:solidFill>
                <a:uFillTx/>
                <a:latin typeface="Georgia"/>
              </a:rPr>
              <a:t>Методы профилактики и борьбы с ленточными червя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160" y="1600200"/>
            <a:ext cx="11736360" cy="499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Обеззараживание пастби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Обследование животных и их мяса перед продаж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Термическая обработка мя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Ветеринарный контро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Личная гигиена ( не допускать самозаражения 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В лесу не брать травинки в ро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Лечение больны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Напишите в тетради: 1. Класс Сосальщики. Печеночный сосальщ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сосальщик"/>
          <p:cNvPicPr/>
          <p:nvPr/>
        </p:nvPicPr>
        <p:blipFill>
          <a:blip r:embed="rId1"/>
          <a:stretch/>
        </p:blipFill>
        <p:spPr>
          <a:xfrm>
            <a:off x="609480" y="1484280"/>
            <a:ext cx="5846760" cy="51292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6512040" y="1700280"/>
            <a:ext cx="5232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  <a:ea typeface="Arial"/>
              </a:rPr>
              <a:t>Хозяин</a:t>
            </a:r>
            <a:r>
              <a:rPr b="0" lang="ru-RU" sz="3600" spc="-1" strike="noStrike">
                <a:solidFill>
                  <a:srgbClr val="002060"/>
                </a:solidFill>
                <a:latin typeface="Georgia"/>
                <a:ea typeface="Arial"/>
              </a:rPr>
              <a:t> – организм, где живет взрослая особь;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  <a:ea typeface="Arial"/>
              </a:rPr>
              <a:t>промежуточный хозяин </a:t>
            </a:r>
            <a:r>
              <a:rPr b="0" lang="ru-RU" sz="3600" spc="-1" strike="noStrike">
                <a:solidFill>
                  <a:srgbClr val="002060"/>
                </a:solidFill>
                <a:latin typeface="Georgia"/>
                <a:ea typeface="Arial"/>
              </a:rPr>
              <a:t>– организм, где живет личиночная стад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  <a:ea typeface="Arial"/>
              </a:rPr>
              <a:t>Рассмотрите строение печеночного сосальщика (слайд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сосальщик"/>
          <p:cNvPicPr/>
          <p:nvPr/>
        </p:nvPicPr>
        <p:blipFill>
          <a:blip r:embed="rId2"/>
          <a:stretch/>
        </p:blipFill>
        <p:spPr>
          <a:xfrm>
            <a:off x="609480" y="1467000"/>
            <a:ext cx="5846760" cy="5128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сосальщик"/>
          <p:cNvPicPr/>
          <p:nvPr/>
        </p:nvPicPr>
        <p:blipFill>
          <a:blip r:embed="rId3"/>
          <a:stretch/>
        </p:blipFill>
        <p:spPr>
          <a:xfrm>
            <a:off x="554040" y="1916280"/>
            <a:ext cx="5846760" cy="51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9520" y="188640"/>
            <a:ext cx="1123308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Посмотрите слайды с 1 по 20. Вывод на 20 слайде.Выполните задания: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Кто является хозяином печеночного сосальщика?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 каком органе паразитирует?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Чем питается?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Какую роль играет моллюск малый прудовик в жизненном цикле печеночного сосальщика?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Как можно заразиться печеночным сосальщиком?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Назовите меры профилактики (слайд 7)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Зарисуйте в тетради схему жизненного цикла печеночного сосальщика (слайд 4).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ыпишите приспособления к паразитизму печеночного сосальщика (слайд 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7920" y="-11160"/>
            <a:ext cx="9604440" cy="71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119160" y="0"/>
            <a:ext cx="1188072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3" descr=""/>
          <p:cNvPicPr/>
          <p:nvPr/>
        </p:nvPicPr>
        <p:blipFill>
          <a:blip r:embed="rId2"/>
          <a:stretch/>
        </p:blipFill>
        <p:spPr>
          <a:xfrm>
            <a:off x="271440" y="152280"/>
            <a:ext cx="1188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Georgia"/>
              </a:rPr>
              <a:t>Меры борьбы и профилактики и борьбы с Печеночным сосальщик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060280"/>
            <a:ext cx="11233440" cy="41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Выявление больных животных и люд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Уничтожение малых прудов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Смена пастбищ ( несколько лет не выпасают на пастбище скот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Не пить воду из природных источников, пить только кипяченную вод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2. Кошачья двуустка (слайд 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Кто является хозяином кошачьей двуустки? 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В каком органе она паразитирует?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 Какое заболевание вызывает?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Какую роль играют рыбы в жизненном цикле кошачьей двуустки?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Как можно заразиться кошачьей двуусткой?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766800" y="115920"/>
            <a:ext cx="9505800" cy="71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05:28:58Z</dcterms:created>
  <dc:creator/>
  <dc:description/>
  <dc:language>en-US</dc:language>
  <cp:lastModifiedBy>Alexander</cp:lastModifiedBy>
  <dcterms:modified xsi:type="dcterms:W3CDTF">2025-11-26T17:30:31Z</dcterms:modified>
  <cp:revision>1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ookName">
    <vt:lpwstr/>
  </property>
  <property fmtid="{D5CDD505-2E9C-101B-9397-08002B2CF9AE}" pid="3" name="IsFreeze">
    <vt:bool>0</vt:bool>
  </property>
  <property fmtid="{D5CDD505-2E9C-101B-9397-08002B2CF9AE}" pid="4" name="MayClose">
    <vt:bool>0</vt:bool>
  </property>
  <property fmtid="{D5CDD505-2E9C-101B-9397-08002B2CF9AE}" pid="5" name="UserClose">
    <vt:bool>0</vt:bool>
  </property>
</Properties>
</file>